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5.wmf" ContentType="image/x-wmf"/>
  <Override PartName="/ppt/media/image30.wmf" ContentType="image/x-wmf"/>
  <Override PartName="/ppt/media/image28.wmf" ContentType="image/x-wmf"/>
  <Override PartName="/ppt/media/image6.png" ContentType="image/png"/>
  <Override PartName="/ppt/media/image14.wmf" ContentType="image/x-wmf"/>
  <Override PartName="/ppt/media/image12.jpeg" ContentType="image/jpeg"/>
  <Override PartName="/ppt/media/image16.wmf" ContentType="image/x-wmf"/>
  <Override PartName="/ppt/media/image8.png" ContentType="image/png"/>
  <Override PartName="/ppt/media/image7.wmf" ContentType="image/x-wmf"/>
  <Override PartName="/ppt/media/image11.jpeg" ContentType="image/jpeg"/>
  <Override PartName="/ppt/media/image9.wmf" ContentType="image/x-wmf"/>
  <Override PartName="/ppt/media/image10.jpeg" ContentType="image/jpeg"/>
  <Override PartName="/ppt/media/image13.wmf" ContentType="image/x-wmf"/>
  <Override PartName="/ppt/media/image31.wmf" ContentType="image/x-wmf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5.wmf" ContentType="image/x-wmf"/>
  <Override PartName="/ppt/media/image17.wmf" ContentType="image/x-wmf"/>
  <Override PartName="/ppt/media/image19.png" ContentType="image/png"/>
  <Override PartName="/ppt/media/image21.png" ContentType="image/png"/>
  <Override PartName="/ppt/media/image18.wmf" ContentType="image/x-wmf"/>
  <Override PartName="/ppt/media/image20.png" ContentType="image/png"/>
  <Override PartName="/ppt/media/image22.png" ContentType="image/png"/>
  <Override PartName="/ppt/media/image23.jpeg" ContentType="image/jpeg"/>
  <Override PartName="/ppt/media/image2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</p:sldIdLst>
  <p:sldSz cx="9144000" cy="6858000"/>
  <p:notesSz cx="6983413" cy="10148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4428A-6B3B-4571-8FA0-F12B8D15B7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9459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C9EB2-8E00-427C-AA7D-E799E3431B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76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6F2EE-A2CB-4650-8388-24DE432CD6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68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336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13A57-504A-4464-A1CB-E0B134892E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0" y="-2520"/>
            <a:ext cx="91440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1585F-2FDA-4365-99F7-FAB23A23F5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576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0" y="39459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576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9168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8336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D4BA8-7C40-4AFE-B58C-FB758EE0EFD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0" y="-2520"/>
            <a:ext cx="91440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8576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0" y="39459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8576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09168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18336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BBFBD9-C6CA-42E7-A3EF-0B4819F73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7AD853-0FBF-4EB6-970C-8B6C8E984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731523-AE30-4DA5-9233-6ECCCD6C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AB1A2-4978-422B-AB79-CEAD50AC560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7D7224-3749-4F6C-94F3-6E54A7156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A87DFB-5887-4D70-9C2B-7C8CC5C24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0" y="-2520"/>
            <a:ext cx="91440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DDF1F5-01F8-4885-937B-061D89793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1F3AC3-70A5-43E2-B2EA-B51BA4FC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8576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AAA51C-B1E3-451E-AF14-93D49000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F9E893-20E3-4E0B-9EDF-321B3787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0" y="39459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7C6879-2262-40DC-8368-3D7019567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8576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400386-EC2A-4E87-937D-90DCA44B0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09168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18336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0F1AAA-4FB4-47A7-B8D0-98C4D004E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B65A8D-74A3-4682-A149-7984BF995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78D93-71B5-45A1-BD9D-EB3D7C09667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591151-D270-464D-9B94-E2DABA534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0E8E56-1303-4A55-8EBE-10959D945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44F47B-BC79-45BD-AFED-D96A90DF8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6B80A1-C5AD-419D-BBBF-99D280C4A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0" y="-2520"/>
            <a:ext cx="91440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78F494-DC8C-4750-9309-8EB7AE051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657E1F-F7DF-4E85-BC8E-BDDF05A0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8576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81C0F8-D5FB-4F28-96D4-986AF898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1A73E2-2E11-4143-AC67-77E79CDA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0" y="39459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CA3A08-6B4E-4274-9BCB-247290915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8576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34A318-4C84-401C-A71F-E1E00276A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2520"/>
            <a:ext cx="91440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D2105-45BD-4BBF-BE5B-029006B12EE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09168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18336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A6A16A-9AC0-4971-B4E7-36E412552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EE4943-25C3-4BC1-A68B-A13442156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E8B699-69C0-4D78-8F71-C69FE606A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0F6506-FC23-47E1-B509-B66F97CD1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C6CAF9-0FAE-4090-9A9F-80E3597CA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9689DF-9045-4347-BC51-F86DD0657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0" y="-2520"/>
            <a:ext cx="91440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C4BEFA-27C8-4604-984A-0E3923C4C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3CB0D5-C261-4AA5-8264-23DC859E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8576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42430B-8CFF-4E54-886E-8CE84FA5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50B42A-111C-4028-BB67-0E1A40FC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E6901-55F3-4DB5-AEF7-33178AB2434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0" y="39459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CD2CFE-BB2B-471C-855C-E8ED25470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8576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9CA55A-A6B0-443E-93FD-6150C91BB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09168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8336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361EFB0-7A72-4BB2-AA67-58BD0FE71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76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6122F-DAD6-42B0-9D94-4B085A2055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5BADA-6D0C-448C-93B7-F38A4CB975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CCEC2-50DC-4DD3-AF4E-8070D365CA5B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560" y="1447560"/>
            <a:ext cx="8458200" cy="160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38280" cy="731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714760" y="0"/>
            <a:ext cx="642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K. Long, </a:t>
            </a:r>
            <a:fld id="{94A6F4FF-645A-4E42-86C9-A15B6A5ED819}" type="datetime3"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July 30, 2026</a:t>
            </a:fld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cc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ff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99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99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99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b716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f0b716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99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3"/>
          </p:nvPr>
        </p:nvSpPr>
        <p:spPr>
          <a:xfrm>
            <a:off x="3429000" y="6381360"/>
            <a:ext cx="1371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27C88-88FE-4726-8F1A-AF0DF7F7388B}" type="datetime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4"/>
          </p:nvPr>
        </p:nvSpPr>
        <p:spPr>
          <a:xfrm>
            <a:off x="48765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5"/>
          </p:nvPr>
        </p:nvSpPr>
        <p:spPr>
          <a:xfrm>
            <a:off x="611280" y="6400800"/>
            <a:ext cx="244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050922 ISS Physics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6"/>
          </p:nvPr>
        </p:nvSpPr>
        <p:spPr>
          <a:xfrm>
            <a:off x="3124080" y="6400800"/>
            <a:ext cx="339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V. Palladino:Super Conventional Beam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0C810-8672-41C5-A17C-229CEE548C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ＭＳ Ｐゴシック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ＭＳ Ｐゴシック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60020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5ff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ebf5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ebf5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ebf5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bf5ff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ebf5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ebf5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ebf5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ebf5ff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ebf5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ebf5ff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ebf5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ebf5ff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ebf5ff"/>
              </a:solidFill>
              <a:latin typeface="ＭＳ Ｐゴシック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8"/>
          </p:nvPr>
        </p:nvSpPr>
        <p:spPr>
          <a:xfrm>
            <a:off x="30481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ebf5ff"/>
                </a:solidFill>
                <a:latin typeface="ＭＳ Ｐゴシック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802F6-AC4C-4C53-8245-E3A908984B94}" type="datetime">
              <a:rPr b="0" lang="ja-JP" sz="1000" spc="-1" strike="noStrike">
                <a:solidFill>
                  <a:srgbClr val="ebf5ff"/>
                </a:solidFill>
                <a:latin typeface="ＭＳ Ｐゴシック"/>
                <a:ea typeface="ＭＳ Ｐゴシック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9"/>
          </p:nvPr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bf5ff"/>
                </a:solidFill>
                <a:latin typeface="ＭＳ Ｐゴシック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f5ff"/>
                </a:solidFill>
                <a:latin typeface="ＭＳ Ｐゴシック"/>
                <a:ea typeface="ＭＳ Ｐゴシック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0"/>
          </p:nvPr>
        </p:nvSpPr>
        <p:spPr>
          <a:xfrm>
            <a:off x="7543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bf5ff"/>
                </a:solidFill>
                <a:latin typeface="ＭＳ Ｐゴシック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BEFB2-CA19-4317-A99D-7DB2198CFDB9}" type="slidenum">
              <a:rPr b="0" lang="en-US" sz="1000" spc="-1" strike="noStrike">
                <a:solidFill>
                  <a:srgbClr val="ebf5f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3353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ＭＳ Ｐゴシック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ＭＳ Ｐゴシック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dt" idx="1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ebf5ff"/>
                </a:solidFill>
                <a:latin typeface="ＭＳ Ｐゴシック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595A9-BEC4-4384-A229-B9C23EB70DA9}" type="datetime">
              <a:rPr b="0" lang="ja-JP" sz="1000" spc="-1" strike="noStrike">
                <a:solidFill>
                  <a:srgbClr val="ebf5ff"/>
                </a:solidFill>
                <a:latin typeface="ＭＳ Ｐゴシック"/>
                <a:ea typeface="ＭＳ Ｐゴシック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ftr" idx="12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bf5ff"/>
                </a:solidFill>
                <a:latin typeface="ＭＳ Ｐゴシック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f5ff"/>
                </a:solidFill>
                <a:latin typeface="ＭＳ Ｐゴシック"/>
                <a:ea typeface="ＭＳ Ｐゴシック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sldNum" idx="1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bf5ff"/>
                </a:solidFill>
                <a:latin typeface="ＭＳ Ｐゴシック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C9FDB-BB45-488D-AE0B-1C22EB2CC048}" type="slidenum">
              <a:rPr b="0" lang="en-US" sz="1000" spc="-1" strike="noStrike">
                <a:solidFill>
                  <a:srgbClr val="ebf5f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jpeg"/><Relationship Id="rId6" Type="http://schemas.openxmlformats.org/officeDocument/2006/relationships/image" Target="../media/image24.wmf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2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rcRect l="2233" t="2712" r="2200" b="4278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The most challenging task: 2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0" y="730080"/>
            <a:ext cx="6372360" cy="61279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6372360" y="787320"/>
            <a:ext cx="2771640" cy="61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Incremental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Implication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wait until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</a:t>
            </a:r>
            <a:r>
              <a:rPr b="1" lang="en-US" sz="2800" spc="-1" strike="noStrike" baseline="-25000">
                <a:solidFill>
                  <a:srgbClr val="ffffcc"/>
                </a:solidFill>
                <a:latin typeface="Arial"/>
              </a:rPr>
              <a:t>13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know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To refute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Have to show that there exists a facility that gives significant improvement over all </a:t>
            </a:r>
            <a:r>
              <a:rPr b="1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</a:t>
            </a:r>
            <a:r>
              <a:rPr b="1" lang="en-US" sz="2800" spc="-1" strike="noStrike" baseline="-25000">
                <a:solidFill>
                  <a:srgbClr val="ffffcc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Machine assumptions: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Super-beam and Neutrino Factory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280720" y="889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Kir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360360" y="1332000"/>
            <a:ext cx="6732720" cy="55260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6407280" y="6292800"/>
            <a:ext cx="24742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nly, one sig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Machine assumptions: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Beta-beam, reference facility (100/100)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539480" y="14436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enedic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936720" y="1413000"/>
            <a:ext cx="7235640" cy="54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Machine assumptions: 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Green-field facility (350/350)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538680" y="179280"/>
            <a:ext cx="264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Lindroos/Hernande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706320" y="1379520"/>
            <a:ext cx="772956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Impact: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Arial"/>
              </a:rPr>
              <a:t>Large scale structure: Kachelreiss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Power-density of CMB has significant implications for neutrino mass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Arial"/>
              </a:rPr>
              <a:t>Challenges</a:t>
            </a:r>
            <a:br>
              <a:rPr sz="3200"/>
            </a:br>
            <a:r>
              <a:rPr b="1" lang="en-GB" sz="3200" spc="-1" strike="noStrike">
                <a:solidFill>
                  <a:srgbClr val="ffff99"/>
                </a:solidFill>
                <a:latin typeface="Arial"/>
              </a:rPr>
              <a:t>of neutrino</a:t>
            </a:r>
            <a:br>
              <a:rPr sz="3200"/>
            </a:br>
            <a:r>
              <a:rPr b="1" lang="en-GB" sz="3200" spc="-1" strike="noStrike">
                <a:solidFill>
                  <a:srgbClr val="ffff99"/>
                </a:solidFill>
                <a:latin typeface="Arial"/>
              </a:rPr>
              <a:t>physics:</a:t>
            </a:r>
            <a:br>
              <a:rPr sz="3200"/>
            </a:br>
            <a:r>
              <a:rPr b="1" lang="en-GB" sz="3200" spc="-1" strike="noStrike">
                <a:solidFill>
                  <a:srgbClr val="ffff99"/>
                </a:solidFill>
                <a:latin typeface="Arial"/>
              </a:rPr>
              <a:t>King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3059280" y="2349360"/>
            <a:ext cx="5940360" cy="44499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3132000" y="5805360"/>
            <a:ext cx="3888000" cy="576360"/>
          </a:xfrm>
          <a:prstGeom prst="rect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Impact: … model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956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Arial"/>
              </a:rPr>
              <a:t>Tri-bimaximal mixing: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Hypothesis: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ff"/>
                </a:solidFill>
                <a:latin typeface="Arial"/>
              </a:rPr>
              <a:t>Motivated by ‘symmetry’</a:t>
            </a:r>
            <a:endParaRPr b="1" lang="en-US" sz="20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48320" y="761760"/>
            <a:ext cx="44956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Models: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ff"/>
                </a:solidFill>
                <a:latin typeface="Arial"/>
              </a:rPr>
              <a:t>Links quarks and leptons</a:t>
            </a:r>
            <a:endParaRPr b="1" lang="en-US" sz="2000" spc="-1" strike="noStrike">
              <a:solidFill>
                <a:srgbClr val="ffcc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80060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826920" y="5661000"/>
            <a:ext cx="7561440" cy="576360"/>
            <a:chOff x="826920" y="5661000"/>
            <a:chExt cx="7561440" cy="576360"/>
          </a:xfrm>
        </p:grpSpPr>
        <p:sp>
          <p:nvSpPr>
            <p:cNvPr id="330" name=""/>
            <p:cNvSpPr/>
            <p:nvPr/>
          </p:nvSpPr>
          <p:spPr>
            <a:xfrm>
              <a:off x="826920" y="5661000"/>
              <a:ext cx="5040360" cy="576360"/>
            </a:xfrm>
            <a:prstGeom prst="rect">
              <a:avLst/>
            </a:prstGeom>
            <a:noFill/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867280" y="5950080"/>
              <a:ext cx="21744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084720" y="5670720"/>
              <a:ext cx="2303640" cy="459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Constraint!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8250120" y="14436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K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b716"/>
                </a:solidFill>
                <a:latin typeface="Comic Sans MS"/>
              </a:rPr>
              <a:t>The Muon Trio:</a:t>
            </a:r>
            <a:endParaRPr b="0" lang="en-US" sz="3200" spc="-1" strike="noStrike">
              <a:solidFill>
                <a:srgbClr val="f0b716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pton Flavor Violat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uon MDM (g-2)          </a:t>
            </a:r>
            <a:r>
              <a:rPr b="0" lang="en-US" sz="2800" spc="-1" strike="noStrike">
                <a:solidFill>
                  <a:srgbClr val="ed032a"/>
                </a:solidFill>
                <a:latin typeface="Comic Sans MS"/>
              </a:rPr>
              <a:t>chiral changing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uon ED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619200" y="3352680"/>
            <a:ext cx="7707240" cy="7686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1876320" y="4248000"/>
            <a:ext cx="4691160" cy="45576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2162160" y="6126120"/>
            <a:ext cx="6307200" cy="46188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4"/>
          <a:stretch/>
        </p:blipFill>
        <p:spPr>
          <a:xfrm>
            <a:off x="1590840" y="5165640"/>
            <a:ext cx="7229160" cy="9414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3881520" y="3200400"/>
            <a:ext cx="4728960" cy="107640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5"/>
          <a:srcRect l="3941" t="6107" r="3941" b="6107"/>
          <a:stretch/>
        </p:blipFill>
        <p:spPr>
          <a:xfrm>
            <a:off x="5181480" y="685800"/>
            <a:ext cx="3432240" cy="210996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6"/>
          <a:srcRect l="0" t="7682" r="0" b="5764"/>
          <a:stretch/>
        </p:blipFill>
        <p:spPr>
          <a:xfrm>
            <a:off x="685800" y="1066680"/>
            <a:ext cx="3048120" cy="165744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7"/>
          <a:stretch/>
        </p:blipFill>
        <p:spPr>
          <a:xfrm>
            <a:off x="5410080" y="917640"/>
            <a:ext cx="3200400" cy="240660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37440" y="92160"/>
            <a:ext cx="194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Lee Rober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155440" y="9216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Ell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F2FD937-50EF-4B85-A35B-BF26D963C82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b716"/>
                </a:solidFill>
                <a:latin typeface="Comic Sans MS"/>
              </a:rPr>
              <a:t>General Statements</a:t>
            </a:r>
            <a:endParaRPr b="0" lang="en-US" sz="3600" spc="-1" strike="noStrike">
              <a:solidFill>
                <a:srgbClr val="f0b716"/>
              </a:solidFill>
              <a:latin typeface="Comic Sans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e know that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oscillat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neutral lepton flavor violation</a:t>
            </a:r>
            <a:endParaRPr b="0" lang="en-US" sz="2800" spc="-1" strike="noStrike">
              <a:solidFill>
                <a:srgbClr val="66ccff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xpect Charged lepton flavor violation at som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enhanced if there is new dynamics at the TeV scale</a:t>
            </a:r>
            <a:endParaRPr b="0" lang="en-US" sz="2800" spc="-1" strike="noStrike">
              <a:solidFill>
                <a:srgbClr val="66ccff"/>
              </a:solidFill>
              <a:latin typeface="Comic Sans MS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ff66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in particular if there is SUSY</a:t>
            </a:r>
            <a:endParaRPr b="0" lang="en-US" sz="2400" spc="-1" strike="noStrike">
              <a:solidFill>
                <a:srgbClr val="ff6699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e expect </a:t>
            </a: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CP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in the lepton sector    (EDMs as well as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oscillations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possible connection with cosmology (leptogenesis) </a:t>
            </a:r>
            <a:endParaRPr b="0" lang="en-US" sz="2800" spc="-1" strike="noStrike">
              <a:solidFill>
                <a:srgbClr val="66ccff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2971800" y="4572000"/>
            <a:ext cx="609480" cy="38088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E1CE100-6472-4D5C-8430-C5E439D1C1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b716"/>
                </a:solidFill>
                <a:latin typeface="Comic Sans MS"/>
              </a:rPr>
              <a:t>At a </a:t>
            </a:r>
            <a:r>
              <a:rPr b="0" i="1" lang="en-US" sz="3200" spc="-1" strike="noStrike">
                <a:solidFill>
                  <a:srgbClr val="f0b716"/>
                </a:solidFill>
                <a:latin typeface="Symbol"/>
                <a:ea typeface="Symbol"/>
              </a:rPr>
              <a:t></a:t>
            </a:r>
            <a:r>
              <a:rPr b="0" lang="en-US" sz="3200" spc="-1" strike="noStrike">
                <a:solidFill>
                  <a:srgbClr val="f0b716"/>
                </a:solidFill>
                <a:latin typeface="Comic Sans MS"/>
              </a:rPr>
              <a:t>-factory, also have a </a:t>
            </a:r>
            <a:r>
              <a:rPr b="0" i="1" lang="en-US" sz="3200" spc="-1" strike="noStrike">
                <a:solidFill>
                  <a:srgbClr val="f0b716"/>
                </a:solidFill>
                <a:latin typeface="Symbol"/>
                <a:ea typeface="Symbol"/>
              </a:rPr>
              <a:t></a:t>
            </a:r>
            <a:r>
              <a:rPr b="0" lang="en-US" sz="3200" spc="-1" strike="noStrike">
                <a:solidFill>
                  <a:srgbClr val="f0b716"/>
                </a:solidFill>
                <a:latin typeface="Comic Sans MS"/>
              </a:rPr>
              <a:t>-factory </a:t>
            </a:r>
            <a:endParaRPr b="0" lang="en-US" sz="3200" spc="-1" strike="noStrike">
              <a:solidFill>
                <a:srgbClr val="f0b716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flux will permit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A dedicated search for a permanent muon EDM ( P, T ) to 10</a:t>
            </a:r>
            <a:r>
              <a:rPr b="0" lang="en-US" sz="2800" spc="-1" strike="noStrike" baseline="30000">
                <a:solidFill>
                  <a:srgbClr val="66ccff"/>
                </a:solidFill>
                <a:latin typeface="Comic Sans MS"/>
              </a:rPr>
              <a:t>-24</a:t>
            </a: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 e cm and beyond.</a:t>
            </a:r>
            <a:endParaRPr b="0" lang="en-US" sz="2800" spc="-1" strike="noStrike">
              <a:solidFill>
                <a:srgbClr val="66c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Search for muon Flavor Violation to below 10</a:t>
            </a:r>
            <a:r>
              <a:rPr b="0" lang="en-US" sz="2800" spc="-1" strike="noStrike" baseline="30000">
                <a:solidFill>
                  <a:srgbClr val="66ccff"/>
                </a:solidFill>
                <a:latin typeface="Comic Sans MS"/>
              </a:rPr>
              <a:t>-18</a:t>
            </a: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 to 10</a:t>
            </a:r>
            <a:r>
              <a:rPr b="0" lang="en-US" sz="2800" spc="-1" strike="noStrike" baseline="30000">
                <a:solidFill>
                  <a:srgbClr val="66ccff"/>
                </a:solidFill>
                <a:latin typeface="Comic Sans MS"/>
              </a:rPr>
              <a:t>-19</a:t>
            </a: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 level, or if </a:t>
            </a:r>
            <a:r>
              <a:rPr b="0" i="1" lang="en-US" sz="2800" spc="-1" strike="noStrike">
                <a:solidFill>
                  <a:srgbClr val="66ccff"/>
                </a:solidFill>
                <a:latin typeface="Symbol"/>
                <a:ea typeface="Symbol"/>
              </a:rPr>
              <a:t></a:t>
            </a: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FV is observed, it will be possible to make detailed studies of the reaction</a:t>
            </a:r>
            <a:endParaRPr b="0" lang="en-US" sz="2800" spc="-1" strike="noStrike">
              <a:solidFill>
                <a:srgbClr val="66ccff"/>
              </a:solidFill>
              <a:latin typeface="Comic Sans MS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1600200" y="5486400"/>
            <a:ext cx="5791320" cy="48276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 flipH="1">
            <a:off x="2819520" y="2362320"/>
            <a:ext cx="304560" cy="304560"/>
          </a:xfrm>
          <a:prstGeom prst="line">
            <a:avLst/>
          </a:prstGeom>
          <a:ln w="349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2346480" y="2351160"/>
            <a:ext cx="304560" cy="304560"/>
          </a:xfrm>
          <a:prstGeom prst="line">
            <a:avLst/>
          </a:prstGeom>
          <a:ln w="349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D3A5F77-3209-4A8A-B0F7-5EEA5CBAE91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First steps 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towards physics chapter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98960" cy="685800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2124000" y="0"/>
            <a:ext cx="50007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57" name=""/>
          <p:cNvGrpSpPr/>
          <p:nvPr/>
        </p:nvGrpSpPr>
        <p:grpSpPr>
          <a:xfrm>
            <a:off x="4140360" y="0"/>
            <a:ext cx="5003640" cy="6858000"/>
            <a:chOff x="4140360" y="0"/>
            <a:chExt cx="5003640" cy="6858000"/>
          </a:xfrm>
        </p:grpSpPr>
        <p:sp>
          <p:nvSpPr>
            <p:cNvPr id="358" name=""/>
            <p:cNvSpPr/>
            <p:nvPr/>
          </p:nvSpPr>
          <p:spPr>
            <a:xfrm>
              <a:off x="4140360" y="3068640"/>
              <a:ext cx="5003640" cy="378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359" name="" descr=""/>
            <p:cNvPicPr/>
            <p:nvPr/>
          </p:nvPicPr>
          <p:blipFill>
            <a:blip r:embed="rId3"/>
            <a:stretch/>
          </p:blipFill>
          <p:spPr>
            <a:xfrm>
              <a:off x="4140360" y="0"/>
              <a:ext cx="5003640" cy="4334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560" y="1447560"/>
            <a:ext cx="8458200" cy="160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Physics working group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116000" y="3492000"/>
            <a:ext cx="76723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–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(not quite a) summary and plans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6021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… 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with grateful thanks to PhysWG speakers and those wh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took part in the discuss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5580000" y="4873680"/>
            <a:ext cx="3564000" cy="198432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9966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0" y="712800"/>
            <a:ext cx="5576760" cy="61452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Propose: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580000" y="761760"/>
            <a:ext cx="356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Arial"/>
              </a:rPr>
              <a:t>Series of w/ss to focus work and to share tools and ideas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Arial"/>
              </a:rPr>
              <a:t>Each w/s documents progress and identifies next steps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Arial"/>
              </a:rPr>
              <a:t>Need to specify goals for first workshop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This week!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2276640"/>
            <a:ext cx="5580000" cy="470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lan to run as a ‘drop in centre’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990720" indent="-36684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Recognises that not all can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come for all the days … though great if you ca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990720" indent="-36684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Weekend included for those that it helps with tra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Working meeting – emphasis on discussion and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WORK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pecific goals now defined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990720" indent="-36684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WWW page to be updat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ommon tools: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Enhance efficiency of those new to calculating sensitivities to oscillation parameters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rcRect l="8078" t="2397" r="8167" b="1871"/>
          <a:stretch/>
        </p:blipFill>
        <p:spPr>
          <a:xfrm>
            <a:off x="1835280" y="2354400"/>
            <a:ext cx="5257800" cy="4503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8046360" y="14436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Hub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Theoretical subgroup: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Arial"/>
              </a:rPr>
              <a:t>Main task: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What is scientific gain of precision measurements of neutrino properties?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ff"/>
                </a:solidFill>
                <a:latin typeface="Arial"/>
              </a:rPr>
              <a:t>Origin of universe … c.f.</a:t>
            </a:r>
            <a:endParaRPr b="1" lang="en-US" sz="2400" spc="-1" strike="noStrike">
              <a:solidFill>
                <a:srgbClr val="ffcc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</a:rPr>
              <a:t>Origin of mass for LHC</a:t>
            </a:r>
            <a:endParaRPr b="1" lang="en-US" sz="2000" spc="-1" strike="noStrike">
              <a:solidFill>
                <a:srgbClr val="00ff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</a:rPr>
              <a:t>Super-symmetry – the last space-time symmetry – for ILC</a:t>
            </a:r>
            <a:endParaRPr b="1" lang="en-US" sz="2000" spc="-1" strike="noStrike">
              <a:solidFill>
                <a:srgbClr val="00ff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ff"/>
                </a:solidFill>
                <a:latin typeface="Arial"/>
              </a:rPr>
              <a:t>Neutrino mass</a:t>
            </a:r>
            <a:endParaRPr b="1" lang="en-US" sz="2400" spc="-1" strike="noStrike">
              <a:solidFill>
                <a:srgbClr val="ffcc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</a:rPr>
              <a:t>Argument presented by Pilar</a:t>
            </a:r>
            <a:endParaRPr b="1" lang="en-US" sz="2000" spc="-1" strike="noStrike">
              <a:solidFill>
                <a:srgbClr val="00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Arial"/>
              </a:rPr>
              <a:t>Job in preparation for w/s #1: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Test to see if ‘origin of universe’ argument could be developed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ff"/>
                </a:solidFill>
                <a:latin typeface="Arial"/>
              </a:rPr>
              <a:t>Steve King (with KL as naïve follower)</a:t>
            </a:r>
            <a:endParaRPr b="1" lang="en-US" sz="2400" spc="-1" strike="noStrike">
              <a:solidFill>
                <a:srgbClr val="ffcc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Development of mass-scale arguments 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ff"/>
                </a:solidFill>
                <a:latin typeface="Arial"/>
              </a:rPr>
              <a:t>Andre de Gouvea</a:t>
            </a:r>
            <a:endParaRPr b="1" lang="en-US" sz="2400" spc="-1" strike="noStrike">
              <a:solidFill>
                <a:srgbClr val="ff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291960" y="907920"/>
            <a:ext cx="763596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Marlett"/>
                <a:ea typeface="Marlett"/>
              </a:rPr>
              <a:t>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nsitivity to unitarity and physics beyond S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08000" y="1628640"/>
            <a:ext cx="8346960" cy="94716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ndard scenario assumes three flavors and vanishing off-diagonal elements of the matter term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50920" y="5516640"/>
            <a:ext cx="8346960" cy="52056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Wingdings 3"/>
                <a:ea typeface="Wingdings 3"/>
              </a:rPr>
              <a:t>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enario 1: existence of sterile neutrin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0920" y="6159600"/>
            <a:ext cx="8346960" cy="64260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Wingdings 3"/>
                <a:ea typeface="Wingdings 3"/>
              </a:rPr>
              <a:t>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enario 2: existence of flavor changing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nt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179280" y="2781360"/>
                <a:ext cx="5413320" cy="19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</m:sup>
                    </m:sSup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6" name=""/>
          <p:cNvSpPr/>
          <p:nvPr/>
        </p:nvSpPr>
        <p:spPr>
          <a:xfrm>
            <a:off x="250920" y="4869000"/>
            <a:ext cx="655308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ssible source of violation of unitarity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-11160"/>
            <a:ext cx="914400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ＭＳ Ｐゴシック"/>
                <a:ea typeface="ＭＳ Ｐゴシック"/>
              </a:rPr>
              <a:t>Phenomenological subgroup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814880" y="115920"/>
            <a:ext cx="12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Yasu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176520" y="3378240"/>
            <a:ext cx="2856960" cy="82548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Precision requir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to test scenarios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fld id="{D07DAA62-9B65-4271-BCF5-BEC9AF15638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Arial"/>
              </a:rPr>
              <a:t>Pheno/Experimental subgroup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99"/>
                </a:solidFill>
                <a:latin typeface="Arial"/>
              </a:rPr>
              <a:t>Calculate sensitivity in </a:t>
            </a:r>
            <a:r>
              <a:rPr b="1" lang="en-GB" sz="1800" spc="-1" strike="noStrike">
                <a:solidFill>
                  <a:srgbClr val="ffff99"/>
                </a:solidFill>
                <a:latin typeface="Symbol"/>
                <a:ea typeface="Symbol"/>
              </a:rPr>
              <a:t></a:t>
            </a:r>
            <a:r>
              <a:rPr b="1" lang="en-GB" sz="1800" spc="-1" strike="noStrike" baseline="-25000">
                <a:solidFill>
                  <a:srgbClr val="ffff99"/>
                </a:solidFill>
                <a:latin typeface="Arial"/>
              </a:rPr>
              <a:t>13</a:t>
            </a:r>
            <a:r>
              <a:rPr b="1" lang="en-GB" sz="1800" spc="-1" strike="noStrike">
                <a:solidFill>
                  <a:srgbClr val="ffff99"/>
                </a:solidFill>
                <a:latin typeface="Arial"/>
              </a:rPr>
              <a:t> - </a:t>
            </a:r>
            <a:r>
              <a:rPr b="1" lang="en-GB" sz="1800" spc="-1" strike="noStrike">
                <a:solidFill>
                  <a:srgbClr val="ffff99"/>
                </a:solidFill>
                <a:latin typeface="Symbol"/>
                <a:ea typeface="Symbol"/>
              </a:rPr>
              <a:t></a:t>
            </a:r>
            <a:r>
              <a:rPr b="1" lang="en-GB" sz="1800" spc="-1" strike="noStrike">
                <a:solidFill>
                  <a:srgbClr val="ffff99"/>
                </a:solidFill>
                <a:latin typeface="Arial"/>
              </a:rPr>
              <a:t> plane:</a:t>
            </a:r>
            <a:endParaRPr b="1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cc"/>
                </a:solidFill>
                <a:latin typeface="Arial"/>
              </a:rPr>
              <a:t>Two reference superbeams SPL, T2K, NOvA</a:t>
            </a:r>
            <a:endParaRPr b="1" lang="en-US" sz="16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ccff"/>
                </a:solidFill>
                <a:latin typeface="Arial"/>
              </a:rPr>
              <a:t>Obtain BNL info for w/s</a:t>
            </a:r>
            <a:endParaRPr b="1" lang="en-US" sz="1400" spc="-1" strike="noStrike">
              <a:solidFill>
                <a:srgbClr val="ffcc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cc"/>
                </a:solidFill>
                <a:latin typeface="Arial"/>
              </a:rPr>
              <a:t>Two reference beta-beams (100/100), (350/350)</a:t>
            </a:r>
            <a:endParaRPr b="1" lang="en-US" sz="16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ccff"/>
                </a:solidFill>
                <a:latin typeface="Arial"/>
              </a:rPr>
              <a:t>Baselines: 130, 700</a:t>
            </a:r>
            <a:endParaRPr b="1" lang="en-US" sz="1400" spc="-1" strike="noStrike">
              <a:solidFill>
                <a:srgbClr val="ffcc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cc"/>
                </a:solidFill>
                <a:latin typeface="Arial"/>
              </a:rPr>
              <a:t>Two reference neutrino factories (20, 50) – assume store both charges</a:t>
            </a:r>
            <a:endParaRPr b="1" lang="en-US" sz="1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cc"/>
                </a:solidFill>
                <a:latin typeface="Arial"/>
              </a:rPr>
              <a:t>Baselines </a:t>
            </a:r>
            <a:endParaRPr b="1" lang="en-US" sz="16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ccff"/>
                </a:solidFill>
                <a:latin typeface="Arial"/>
              </a:rPr>
              <a:t>Define reference 1000, 3000</a:t>
            </a:r>
            <a:endParaRPr b="1" lang="en-US" sz="1400" spc="-1" strike="noStrike">
              <a:solidFill>
                <a:srgbClr val="ffcc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ccff"/>
                </a:solidFill>
                <a:latin typeface="Arial"/>
              </a:rPr>
              <a:t>… </a:t>
            </a:r>
            <a:r>
              <a:rPr b="1" lang="en-GB" sz="1400" spc="-1" strike="noStrike">
                <a:solidFill>
                  <a:srgbClr val="ffccff"/>
                </a:solidFill>
                <a:latin typeface="Arial"/>
              </a:rPr>
              <a:t>but hope that some optimisation can be done</a:t>
            </a:r>
            <a:endParaRPr b="1" lang="en-US" sz="1400" spc="-1" strike="noStrike">
              <a:solidFill>
                <a:srgbClr val="ffc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99"/>
                </a:solidFill>
                <a:latin typeface="Arial"/>
              </a:rPr>
              <a:t>AEDL for options to be posted on WWW</a:t>
            </a:r>
            <a:endParaRPr b="1" lang="en-US" sz="18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ccff"/>
                </a:solidFill>
                <a:latin typeface="Arial"/>
              </a:rPr>
              <a:t>Action: Patrick Huber/KL</a:t>
            </a:r>
            <a:endParaRPr b="1" lang="en-US" sz="1400" spc="-1" strike="noStrike">
              <a:solidFill>
                <a:srgbClr val="ffcc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ccff"/>
                </a:solidFill>
                <a:latin typeface="Arial"/>
              </a:rPr>
              <a:t>Comparison of results:</a:t>
            </a:r>
            <a:endParaRPr b="1" lang="en-US" sz="1400" spc="-1" strike="noStrike">
              <a:solidFill>
                <a:srgbClr val="ffcc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ff00"/>
                </a:solidFill>
                <a:latin typeface="Arial"/>
              </a:rPr>
              <a:t>From GLOBES: Patrick Huber, Paul Harrison (et al)</a:t>
            </a:r>
            <a:endParaRPr b="1" lang="en-US" sz="1200" spc="-1" strike="noStrike">
              <a:solidFill>
                <a:srgbClr val="00ff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ff00"/>
                </a:solidFill>
                <a:latin typeface="Arial"/>
              </a:rPr>
              <a:t>From ‘Valencia code’: Pilar Hernandez (et al)</a:t>
            </a:r>
            <a:endParaRPr b="1" lang="en-US" sz="1200" spc="-1" strike="noStrike">
              <a:solidFill>
                <a:srgbClr val="00ff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ff00"/>
                </a:solidFill>
                <a:latin typeface="Arial"/>
              </a:rPr>
              <a:t>From ‘Madrid code’: Stefano Rigolin (et al.)</a:t>
            </a:r>
            <a:endParaRPr b="1" lang="en-US" sz="1200" spc="-1" strike="noStrike">
              <a:solidFill>
                <a:srgbClr val="00ff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ccff"/>
                </a:solidFill>
                <a:latin typeface="Arial"/>
              </a:rPr>
              <a:t>What:</a:t>
            </a:r>
            <a:endParaRPr b="1" lang="en-US" sz="1400" spc="-1" strike="noStrike">
              <a:solidFill>
                <a:srgbClr val="ffcc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ff00"/>
                </a:solidFill>
                <a:latin typeface="Arial"/>
              </a:rPr>
              <a:t>Perform fits for small number of assumed parameter sets</a:t>
            </a:r>
            <a:endParaRPr b="1" lang="en-US" sz="1200" spc="-1" strike="noStrike">
              <a:solidFill>
                <a:srgbClr val="00ff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ff00"/>
                </a:solidFill>
                <a:latin typeface="Arial"/>
              </a:rPr>
              <a:t>Comment on discrete degeneracies</a:t>
            </a:r>
            <a:endParaRPr b="1" lang="en-US" sz="1200" spc="-1" strike="noStrike">
              <a:solidFill>
                <a:srgbClr val="00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cc"/>
                </a:solidFill>
                <a:latin typeface="Arial"/>
              </a:rPr>
              <a:t>Goal is to establish a baseline for development of comparison of facilities alone and in combination</a:t>
            </a:r>
            <a:endParaRPr b="1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9900"/>
                </a:solidFill>
                <a:latin typeface="Arial"/>
              </a:rPr>
              <a:t>Need i/p from detector group … detector performance assumptions:</a:t>
            </a:r>
            <a:endParaRPr b="1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cc"/>
                </a:solidFill>
                <a:latin typeface="Arial"/>
              </a:rPr>
              <a:t>Suggest:</a:t>
            </a:r>
            <a:endParaRPr b="1" lang="en-US" sz="16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ccff"/>
                </a:solidFill>
                <a:latin typeface="Arial"/>
              </a:rPr>
              <a:t>Iron Cal: MINOS + high granularity - for NF for 14Nov</a:t>
            </a:r>
            <a:endParaRPr b="1" lang="en-US" sz="1400" spc="-1" strike="noStrike">
              <a:solidFill>
                <a:srgbClr val="ffcc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ccff"/>
                </a:solidFill>
                <a:latin typeface="Arial"/>
              </a:rPr>
              <a:t>LAr?</a:t>
            </a:r>
            <a:endParaRPr b="1" lang="en-US" sz="1400" spc="-1" strike="noStrike">
              <a:solidFill>
                <a:srgbClr val="ffcc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ccff"/>
                </a:solidFill>
                <a:latin typeface="Arial"/>
              </a:rPr>
              <a:t>H</a:t>
            </a:r>
            <a:r>
              <a:rPr b="1" lang="en-GB" sz="1400" spc="-1" strike="noStrike" baseline="-25000">
                <a:solidFill>
                  <a:srgbClr val="ffccff"/>
                </a:solidFill>
                <a:latin typeface="Arial"/>
              </a:rPr>
              <a:t>2</a:t>
            </a:r>
            <a:r>
              <a:rPr b="1" lang="en-GB" sz="1400" spc="-1" strike="noStrike">
                <a:solidFill>
                  <a:srgbClr val="ffccff"/>
                </a:solidFill>
                <a:latin typeface="Arial"/>
              </a:rPr>
              <a:t>O </a:t>
            </a:r>
            <a:r>
              <a:rPr b="1" lang="en-US" sz="1400" spc="-1" strike="noStrike">
                <a:solidFill>
                  <a:srgbClr val="ffccff"/>
                </a:solidFill>
                <a:latin typeface="Arial"/>
                <a:ea typeface="Arial"/>
              </a:rPr>
              <a:t>Ç – for sb and low gamma beta beam for 14Nov</a:t>
            </a:r>
            <a:endParaRPr b="1" lang="en-US" sz="1400" spc="-1" strike="noStrike">
              <a:solidFill>
                <a:srgbClr val="ffcc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ff"/>
                </a:solidFill>
                <a:latin typeface="Arial"/>
                <a:ea typeface="Arial"/>
              </a:rPr>
              <a:t>Scint – for high gamma beta beam for 14Nov</a:t>
            </a:r>
            <a:endParaRPr b="1" lang="en-US" sz="1400" spc="-1" strike="noStrike">
              <a:solidFill>
                <a:srgbClr val="ffcc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ff"/>
                </a:solidFill>
                <a:latin typeface="Arial"/>
                <a:ea typeface="Arial"/>
              </a:rPr>
              <a:t>Emmulsion</a:t>
            </a:r>
            <a:endParaRPr b="1" lang="en-US" sz="1400" spc="-1" strike="noStrike">
              <a:solidFill>
                <a:srgbClr val="ff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A challenging programme …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0" y="2420640"/>
            <a:ext cx="91440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…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but at least we’ll have started!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ontent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Arial"/>
              </a:rPr>
              <a:t>Introduction and motivation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Arial"/>
              </a:rPr>
              <a:t>The most difficult task (!)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Arial"/>
              </a:rPr>
              <a:t>What to assume about the machines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Arial"/>
              </a:rPr>
              <a:t>Impact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Arial"/>
              </a:rPr>
              <a:t>Muon physics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Arial"/>
              </a:rPr>
              <a:t>Work to do in preparation for first phys. grp. w/s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Theoretical subgroup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Phenomenological subgroup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Experimental subgroup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-2160"/>
            <a:ext cx="914400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Arial"/>
              </a:rPr>
              <a:t>The neutrino standard model?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Three active flavours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Three, Dirac, mass eigenstates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ff"/>
                </a:solidFill>
                <a:latin typeface="Arial"/>
              </a:rPr>
              <a:t>Neutrino mass scale</a:t>
            </a:r>
            <a:endParaRPr b="1" lang="en-US" sz="2400" spc="-1" strike="noStrike">
              <a:solidFill>
                <a:srgbClr val="ffcc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ff"/>
                </a:solidFill>
                <a:latin typeface="Arial"/>
              </a:rPr>
              <a:t>Mass hierarchy</a:t>
            </a:r>
            <a:endParaRPr b="1" lang="en-US" sz="2400" spc="-1" strike="noStrike">
              <a:solidFill>
                <a:srgbClr val="ffc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MNS mixing matrix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ff"/>
                </a:solidFill>
                <a:latin typeface="Arial"/>
              </a:rPr>
              <a:t>Three mixing angles</a:t>
            </a:r>
            <a:endParaRPr b="1" lang="en-US" sz="2400" spc="-1" strike="noStrike">
              <a:solidFill>
                <a:srgbClr val="ffcc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ff"/>
                </a:solidFill>
                <a:latin typeface="Arial"/>
              </a:rPr>
              <a:t>One CP phase</a:t>
            </a:r>
            <a:endParaRPr b="1" lang="en-US" sz="2400" spc="-1" strike="noStrike">
              <a:solidFill>
                <a:srgbClr val="ffc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Arial"/>
              </a:rPr>
              <a:t>Physics beyond </a:t>
            </a:r>
            <a:r>
              <a:rPr b="1" i="1" lang="en-GB" sz="3200" spc="-1" strike="noStrike">
                <a:solidFill>
                  <a:srgbClr val="ffff99"/>
                </a:solidFill>
                <a:latin typeface="Arial"/>
              </a:rPr>
              <a:t>The</a:t>
            </a:r>
            <a:r>
              <a:rPr b="1" lang="en-GB" sz="3200" spc="-1" strike="noStrike">
                <a:solidFill>
                  <a:srgbClr val="ffff99"/>
                </a:solidFill>
                <a:latin typeface="Arial"/>
              </a:rPr>
              <a:t> Standard Model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93600" y="3716280"/>
                <a:ext cx="901548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ν</m:t>
                                  </m:r>
                                </m:e>
                                <m:sub>
                                  <m:r>
                                    <m:t xml:space="preserve">e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ν</m:t>
                                  </m:r>
                                </m:e>
                                <m:sub>
                                  <m:r>
                                    <m:t xml:space="preserve">μ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ν</m:t>
                                  </m:r>
                                </m:e>
                                <m:sub>
                                  <m:r>
                                    <m:t xml:space="preserve">τ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iδ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-i</m:t>
                                  </m:r>
                                  <m:r>
                                    <m:t xml:space="preserve">δ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ν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ν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ν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6372360" y="1276200"/>
            <a:ext cx="277164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Motivation: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3635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The masses are so different, that must be a clue …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Neutrino mixing so different from quark mixing, that must be clue …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3635280" y="781200"/>
            <a:ext cx="5508720" cy="27190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rcRect l="0" t="0" r="1346" b="0"/>
          <a:stretch/>
        </p:blipFill>
        <p:spPr>
          <a:xfrm>
            <a:off x="3568680" y="4581360"/>
            <a:ext cx="5575320" cy="16146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5588280" y="141120"/>
            <a:ext cx="34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de Gouvea, Hernandez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399276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Motivation: 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the era of sensitivity …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0" y="2611440"/>
            <a:ext cx="9144000" cy="4249080"/>
            <a:chOff x="0" y="2611440"/>
            <a:chExt cx="9144000" cy="4249080"/>
          </a:xfrm>
        </p:grpSpPr>
        <p:pic>
          <p:nvPicPr>
            <p:cNvPr id="260" name="" descr=""/>
            <p:cNvPicPr/>
            <p:nvPr/>
          </p:nvPicPr>
          <p:blipFill>
            <a:blip r:embed="rId2"/>
            <a:stretch/>
          </p:blipFill>
          <p:spPr>
            <a:xfrm>
              <a:off x="0" y="2611440"/>
              <a:ext cx="9144000" cy="424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1440" y="6400800"/>
              <a:ext cx="1738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66"/>
                  </a:solidFill>
                  <a:latin typeface="Arial"/>
                </a:rPr>
                <a:t>de Gouvea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3911760" y="741240"/>
            <a:ext cx="17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Hernandez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"/>
          <p:cNvGrpSpPr/>
          <p:nvPr/>
        </p:nvGrpSpPr>
        <p:grpSpPr>
          <a:xfrm>
            <a:off x="2556000" y="3429000"/>
            <a:ext cx="4000320" cy="3429000"/>
            <a:chOff x="2556000" y="3429000"/>
            <a:chExt cx="4000320" cy="3429000"/>
          </a:xfrm>
        </p:grpSpPr>
        <p:sp>
          <p:nvSpPr>
            <p:cNvPr id="264" name=""/>
            <p:cNvSpPr/>
            <p:nvPr/>
          </p:nvSpPr>
          <p:spPr>
            <a:xfrm>
              <a:off x="2556000" y="3429000"/>
              <a:ext cx="4000320" cy="342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265" name="" descr=""/>
            <p:cNvPicPr/>
            <p:nvPr/>
          </p:nvPicPr>
          <p:blipFill>
            <a:blip r:embed="rId1"/>
            <a:srcRect l="0" t="7231" r="7741" b="2337"/>
            <a:stretch/>
          </p:blipFill>
          <p:spPr>
            <a:xfrm>
              <a:off x="2556000" y="3470400"/>
              <a:ext cx="3456000" cy="338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4358160" y="3645000"/>
              <a:ext cx="1500480" cy="119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ff"/>
                  </a:solidFill>
                  <a:latin typeface="Arial"/>
                </a:rPr>
                <a:t>Neutrino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ff"/>
                  </a:solidFill>
                  <a:latin typeface="Arial"/>
                </a:rPr>
                <a:t>Factory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ff"/>
                  </a:solidFill>
                  <a:latin typeface="Symbol"/>
                  <a:ea typeface="Symbol"/>
                </a:rPr>
                <a:t>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ff"/>
                  </a:solidFill>
                  <a:latin typeface="Arial"/>
                </a:rPr>
                <a:t>Super-beam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5400000">
              <a:off x="4797360" y="4930560"/>
              <a:ext cx="293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66"/>
                  </a:solidFill>
                  <a:latin typeface="Arial"/>
                </a:rPr>
                <a:t>O.Mena (hep-ph/0503097)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Motivation: 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… and precision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765000"/>
            <a:ext cx="9144000" cy="266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0" y="1254240"/>
            <a:ext cx="9144000" cy="217476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5535720" y="836640"/>
            <a:ext cx="357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Burguet et al. (hep-ph/0503021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40" y="76500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Beta-bea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3438360"/>
            <a:ext cx="9144000" cy="0"/>
          </a:xfrm>
          <a:prstGeom prst="line">
            <a:avLst/>
          </a:prstGeom>
          <a:ln w="7632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-2880" y="90360"/>
            <a:ext cx="50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cc"/>
                </a:solidFill>
                <a:uFillTx/>
                <a:latin typeface="Times New Roman"/>
              </a:rPr>
              <a:t>Two main physics strateg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79280" y="765000"/>
            <a:ext cx="8964720" cy="2654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se of  the high neutrino rate (&gt;10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/year) and energy (10-50 GeV) of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ino Factory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LMD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ff0000"/>
                </a:solidFill>
                <a:latin typeface="Times New Roman"/>
              </a:rPr>
              <a:t>(“SuperMinos”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tector of large but not huge mass (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50-100 Kt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)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ecessarily magnet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(a dense magnetized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Iron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detector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or, possibly, Li-Argon),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few 1000 Km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away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79280" y="3573360"/>
            <a:ext cx="8964720" cy="3751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se of the lower neutrino rate (10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imes New Roman"/>
              </a:rPr>
              <a:t>18-19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/year) and energy (sub-GeV) of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Betabeam + “Megaton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ow density detector of very large mass (0.5-1 Mt)               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d volume       (0.5-1 Mm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on magnetic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(a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Water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Cerenkov detector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or possibly, again Li-Argon),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 few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100 Km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away (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except for AGS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166760" y="1936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25040" y="1484280"/>
            <a:ext cx="1682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Symbol"/>
                <a:ea typeface="Symbol"/>
              </a:rPr>
              <a:t></a:t>
            </a:r>
            <a:r>
              <a:rPr b="1" lang="el-GR" sz="2400" spc="-1" strike="noStrike">
                <a:solidFill>
                  <a:srgbClr val="ff0000"/>
                </a:solidFill>
                <a:latin typeface="Times New Roman"/>
              </a:rPr>
              <a:t>ν</a:t>
            </a:r>
            <a:r>
              <a:rPr b="1" lang="it-IT" sz="2400" spc="-1" strike="noStrike" baseline="-25000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lang="el-GR" sz="2400" spc="-1" strike="noStrike">
                <a:solidFill>
                  <a:srgbClr val="ff0000"/>
                </a:solidFill>
                <a:latin typeface="Times New Roman"/>
              </a:rPr>
              <a:t>ν</a:t>
            </a:r>
            <a:r>
              <a:rPr b="1" lang="it-IT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476360" y="1628640"/>
            <a:ext cx="144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92360" y="4365720"/>
            <a:ext cx="95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it-IT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ff0000"/>
                </a:solidFill>
                <a:latin typeface="Times New Roman"/>
              </a:rPr>
              <a:t>ν</a:t>
            </a:r>
            <a:r>
              <a:rPr b="1" lang="it-IT" sz="2400" spc="-1" strike="noStrike" baseline="-25000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76920" y="272880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Nufact0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27600" y="585144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NNN0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517520" y="3816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Palladin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24080" y="6400800"/>
            <a:ext cx="339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cc"/>
                </a:solidFill>
                <a:latin typeface="Times New Roman"/>
              </a:rPr>
              <a:t>V. Palladino:Super Conventional Beams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7960" y="3137760"/>
            <a:ext cx="9055080" cy="5814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R&amp;D into machine (MERIT, MICE, …) essenti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fld id="{3DA456D7-EB0F-4C39-884A-28166B5A335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The most challenging task: 1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660360" y="1908000"/>
            <a:ext cx="246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Increment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34920" y="771480"/>
            <a:ext cx="6624720" cy="6086520"/>
          </a:xfrm>
          <a:prstGeom prst="rect">
            <a:avLst/>
          </a:prstGeom>
          <a:ln w="0">
            <a:noFill/>
          </a:ln>
        </p:spPr>
      </p:pic>
      <p:grpSp>
        <p:nvGrpSpPr>
          <p:cNvPr id="289" name=""/>
          <p:cNvGrpSpPr/>
          <p:nvPr/>
        </p:nvGrpSpPr>
        <p:grpSpPr>
          <a:xfrm>
            <a:off x="3884760" y="1176480"/>
            <a:ext cx="2417760" cy="2950920"/>
            <a:chOff x="3884760" y="1176480"/>
            <a:chExt cx="2417760" cy="2950920"/>
          </a:xfrm>
        </p:grpSpPr>
        <p:sp>
          <p:nvSpPr>
            <p:cNvPr id="290" name=""/>
            <p:cNvSpPr/>
            <p:nvPr/>
          </p:nvSpPr>
          <p:spPr>
            <a:xfrm>
              <a:off x="3884760" y="1176480"/>
              <a:ext cx="2417760" cy="5806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Era of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sensitivity &amp; precisi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362920" y="1811520"/>
              <a:ext cx="0" cy="231588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1725480" y="762120"/>
            <a:ext cx="7418520" cy="6095880"/>
            <a:chOff x="1725480" y="762120"/>
            <a:chExt cx="7418520" cy="6095880"/>
          </a:xfrm>
        </p:grpSpPr>
        <p:grpSp>
          <p:nvGrpSpPr>
            <p:cNvPr id="293" name=""/>
            <p:cNvGrpSpPr/>
            <p:nvPr/>
          </p:nvGrpSpPr>
          <p:grpSpPr>
            <a:xfrm>
              <a:off x="2700360" y="762120"/>
              <a:ext cx="6443640" cy="6095880"/>
              <a:chOff x="2700360" y="762120"/>
              <a:chExt cx="6443640" cy="6095880"/>
            </a:xfrm>
          </p:grpSpPr>
          <p:grpSp>
            <p:nvGrpSpPr>
              <p:cNvPr id="294" name=""/>
              <p:cNvGrpSpPr/>
              <p:nvPr/>
            </p:nvGrpSpPr>
            <p:grpSpPr>
              <a:xfrm>
                <a:off x="2700360" y="765000"/>
                <a:ext cx="6443640" cy="6093000"/>
                <a:chOff x="2700360" y="765000"/>
                <a:chExt cx="6443640" cy="609300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3492360" y="765000"/>
                  <a:ext cx="5651640" cy="6093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6" name=""/>
                <p:cNvGrpSpPr/>
                <p:nvPr/>
              </p:nvGrpSpPr>
              <p:grpSpPr>
                <a:xfrm>
                  <a:off x="2700360" y="771480"/>
                  <a:ext cx="1800360" cy="6086520"/>
                  <a:chOff x="2700360" y="771480"/>
                  <a:chExt cx="1800360" cy="6086520"/>
                </a:xfrm>
              </p:grpSpPr>
              <p:grpSp>
                <p:nvGrpSpPr>
                  <p:cNvPr id="297" name=""/>
                  <p:cNvGrpSpPr/>
                  <p:nvPr/>
                </p:nvGrpSpPr>
                <p:grpSpPr>
                  <a:xfrm>
                    <a:off x="2700360" y="771480"/>
                    <a:ext cx="1800360" cy="6086520"/>
                    <a:chOff x="2700360" y="771480"/>
                    <a:chExt cx="1800360" cy="6086520"/>
                  </a:xfrm>
                </p:grpSpPr>
                <p:pic>
                  <p:nvPicPr>
                    <p:cNvPr id="298" name="" descr=""/>
                    <p:cNvPicPr/>
                    <p:nvPr/>
                  </p:nvPicPr>
                  <p:blipFill>
                    <a:blip r:embed="rId2"/>
                    <a:srcRect l="78267" t="0" r="0" b="0"/>
                    <a:stretch/>
                  </p:blipFill>
                  <p:spPr>
                    <a:xfrm>
                      <a:off x="3060720" y="771480"/>
                      <a:ext cx="1440000" cy="608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99" name="" descr=""/>
                    <p:cNvPicPr/>
                    <p:nvPr/>
                  </p:nvPicPr>
                  <p:blipFill>
                    <a:blip r:embed="rId3"/>
                    <a:srcRect l="41314" t="85081" r="33693" b="0"/>
                    <a:stretch/>
                  </p:blipFill>
                  <p:spPr>
                    <a:xfrm>
                      <a:off x="2700360" y="5950080"/>
                      <a:ext cx="1656000" cy="907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sp>
                <p:nvSpPr>
                  <p:cNvPr id="300" name=""/>
                  <p:cNvSpPr/>
                  <p:nvPr/>
                </p:nvSpPr>
                <p:spPr>
                  <a:xfrm>
                    <a:off x="3059280" y="2924280"/>
                    <a:ext cx="72720" cy="12967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01" name=""/>
              <p:cNvSpPr/>
              <p:nvPr/>
            </p:nvSpPr>
            <p:spPr>
              <a:xfrm>
                <a:off x="4572000" y="762120"/>
                <a:ext cx="4572000" cy="609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799"/>
                  </a:spcBef>
                  <a:buClr>
                    <a:srgbClr val="ccff33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99"/>
                    </a:solidFill>
                    <a:latin typeface="Arial"/>
                  </a:rPr>
                  <a:t>Optimum schedule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lvl="1" marL="743040" indent="-285840">
                  <a:lnSpc>
                    <a:spcPct val="100000"/>
                  </a:lnSpc>
                  <a:spcBef>
                    <a:spcPts val="700"/>
                  </a:spcBef>
                  <a:buClr>
                    <a:srgbClr val="cc9900"/>
                  </a:buClr>
                  <a:buSzPct val="6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Science driven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lvl="1" marL="743040" indent="-285840">
                  <a:lnSpc>
                    <a:spcPct val="100000"/>
                  </a:lnSpc>
                  <a:spcBef>
                    <a:spcPts val="700"/>
                  </a:spcBef>
                  <a:buClr>
                    <a:srgbClr val="cc9900"/>
                  </a:buClr>
                  <a:buSzPct val="6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Potential match to funding window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marL="343080" indent="-343080">
                  <a:lnSpc>
                    <a:spcPct val="100000"/>
                  </a:lnSpc>
                  <a:spcBef>
                    <a:spcPts val="799"/>
                  </a:spcBef>
                  <a:buClr>
                    <a:srgbClr val="ccff33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99"/>
                    </a:solidFill>
                    <a:latin typeface="Arial"/>
                  </a:rPr>
                  <a:t>Challenge: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lvl="1" marL="743040" indent="-285840">
                  <a:lnSpc>
                    <a:spcPct val="100000"/>
                  </a:lnSpc>
                  <a:spcBef>
                    <a:spcPts val="700"/>
                  </a:spcBef>
                  <a:buClr>
                    <a:srgbClr val="cc9900"/>
                  </a:buClr>
                  <a:buSzPct val="6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To make the case!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1725480" y="1138320"/>
              <a:ext cx="2417760" cy="2950920"/>
              <a:chOff x="1725480" y="1138320"/>
              <a:chExt cx="2417760" cy="2950920"/>
            </a:xfrm>
          </p:grpSpPr>
          <p:sp>
            <p:nvSpPr>
              <p:cNvPr id="303" name=""/>
              <p:cNvSpPr/>
              <p:nvPr/>
            </p:nvSpPr>
            <p:spPr>
              <a:xfrm>
                <a:off x="1725480" y="1138320"/>
                <a:ext cx="2417760" cy="580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Era of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sensitivity &amp; precisio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203640" y="1773360"/>
                <a:ext cx="0" cy="231588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0T13:55:13Z</dcterms:created>
  <dc:creator>long</dc:creator>
  <dc:description/>
  <dc:language>en-US</dc:language>
  <cp:lastModifiedBy>long</cp:lastModifiedBy>
  <dcterms:modified xsi:type="dcterms:W3CDTF">2005-09-24T07:11:09Z</dcterms:modified>
  <cp:revision>31</cp:revision>
  <dc:subject/>
  <dc:title>Introduction to Experimental sub-group</dc:title>
</cp:coreProperties>
</file>